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chimes.wav" ContentType="audio/x-wav"/>
  <Override PartName="/ppt/media/image7.wmf" ContentType="image/x-wmf"/>
  <Override PartName="/ppt/media/image2.wmf" ContentType="image/x-wmf"/>
  <Override PartName="/ppt/media/clap.wav" ContentType="audio/x-wav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drumroll.wav" ContentType="audio/x-wav"/>
  <Override PartName="/ppt/media/applause.wav" ContentType="audio/x-wav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EED9-52D8-4095-9215-0F78BE3C2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51F2-DF51-43E8-AD63-36AB3368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99B5-0A6D-47A1-A3B8-9FB2CA794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3087-7673-42B6-9355-5C07309E2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22E1-F449-4292-8C6A-BF551B0F0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9055-13D6-44E5-B56A-337FD150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0E8A-1129-4F9E-B0D3-9B11433F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F243-393B-484B-A006-BD3CB57F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DE16-AE05-49F7-8720-6D29B3A7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7330-9DA2-4938-8921-62C5700C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6489-4D89-4144-A6C8-CF91FC4C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56DB-0FDF-4AB8-8DCE-31CD1D23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B5E1-940F-4DA5-82BE-4E623FF0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DE60-8F59-40D0-8849-4F06B554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6000-6025-455F-BCB7-7AA0678B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A6E2-3506-4192-8343-59453D834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01D2-CD21-47C6-BA73-56E5C93A6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5D76-FF60-47E9-B58A-13652000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E430-A8FB-40E6-B076-39ABC133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A4C8-A0BC-4B12-82DD-6C7BC10A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BC85-392D-44C0-A423-E54E87F9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3EC9-C85C-4A06-9208-5F5E91CA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7081-DC00-4D3C-953C-005742DB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CCD1-D5C5-4605-BFFD-FD824325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334B-3A6E-49DD-B3F8-872A276EB2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FF38-FC4A-459F-957B-A0C781D314B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Comic Sans MS"/>
              </a:rPr>
              <a:t>Writing a Sto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Helpful hints for story writ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6" descr="C:\Program Files\Microsoft Office\Clipart\Pub60Cor\so01568_.wmf"/>
          <p:cNvPicPr/>
          <p:nvPr/>
        </p:nvPicPr>
        <p:blipFill>
          <a:blip r:embed="rId1"/>
          <a:stretch/>
        </p:blipFill>
        <p:spPr>
          <a:xfrm>
            <a:off x="3618000" y="2500200"/>
            <a:ext cx="3163680" cy="3079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75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75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Comic Sans MS"/>
              </a:rPr>
              <a:t>The Beginn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setting – where you are n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charact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se adjectives, powerful verbs, adverb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6" descr="C:\Program Files\Microsoft Office\Clipart\Pub60Cor\pe00014_.wmf"/>
          <p:cNvPicPr/>
          <p:nvPr/>
        </p:nvPicPr>
        <p:blipFill>
          <a:blip r:embed="rId1"/>
          <a:stretch/>
        </p:blipFill>
        <p:spPr>
          <a:xfrm>
            <a:off x="5638680" y="4114800"/>
            <a:ext cx="2667240" cy="1817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7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Comic Sans MS"/>
              </a:rPr>
              <a:t>Where do you go to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How do you reach your imaginary worl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 through a door, through a hole in the garden fence, in the shed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4267080" y="3809880"/>
            <a:ext cx="2819520" cy="2451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75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75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3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Comic Sans MS"/>
              </a:rPr>
              <a:t>Describe your imaginary world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at can you se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at can you hea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at can you smel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at can you fee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at can you tast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7" descr="C:\Program Files\Microsoft Office\Clipart\Pub60Cor\na01064_.wmf"/>
          <p:cNvPicPr/>
          <p:nvPr/>
        </p:nvPicPr>
        <p:blipFill>
          <a:blip r:embed="rId1"/>
          <a:stretch/>
        </p:blipFill>
        <p:spPr>
          <a:xfrm>
            <a:off x="685800" y="2165400"/>
            <a:ext cx="3809880" cy="3746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7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7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Comic Sans MS"/>
              </a:rPr>
              <a:t>A mythical creature appears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ere does the mythical creature appear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Do you hear a rustling in a tree, a noise from behind, does it land in front of you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at does the mythical creature look lik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Use adjectives, powerful verbs and adverb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5" descr="C:\Program Files\Microsoft Office\Clipart\Pub60Cor\j0099153.wmf"/>
          <p:cNvPicPr/>
          <p:nvPr/>
        </p:nvPicPr>
        <p:blipFill>
          <a:blip r:embed="rId1"/>
          <a:stretch/>
        </p:blipFill>
        <p:spPr>
          <a:xfrm>
            <a:off x="3505320" y="533520"/>
            <a:ext cx="2449440" cy="2151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7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7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3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3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3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Comic Sans MS"/>
              </a:rPr>
              <a:t>What happen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ink of what the creature do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s it nasty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oes it chase you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s it friendl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o you help it d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ometh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s it hur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7" descr="C:\Program Files\Microsoft Office\Clipart\Pub60Cor\an00932_.wmf"/>
          <p:cNvPicPr/>
          <p:nvPr/>
        </p:nvPicPr>
        <p:blipFill>
          <a:blip r:embed="rId1"/>
          <a:stretch/>
        </p:blipFill>
        <p:spPr>
          <a:xfrm>
            <a:off x="5486400" y="2590920"/>
            <a:ext cx="3429000" cy="2244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7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7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Comic Sans MS"/>
              </a:rPr>
              <a:t>What is the complication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oes it capture you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oes it take you to i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lair, a ca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o you mee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proble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en you 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o help i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4" descr="C:\Program Files\Microsoft Office\Clipart\Pub60Cor\so02067_.wmf"/>
          <p:cNvPicPr/>
          <p:nvPr/>
        </p:nvPicPr>
        <p:blipFill>
          <a:blip r:embed="rId1"/>
          <a:stretch/>
        </p:blipFill>
        <p:spPr>
          <a:xfrm>
            <a:off x="5791320" y="2209680"/>
            <a:ext cx="3076560" cy="3468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75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75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75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75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Comic Sans MS"/>
              </a:rPr>
              <a:t>The Ending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How does the problem get solv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How do you manage to escap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Remember that the reader must KNOW it is the end of the story WITHOUT you writing “The End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5" descr="C:\Program Files\Microsoft Office\Clipart\Pub60Cor\pe02288_.wmf"/>
          <p:cNvPicPr/>
          <p:nvPr/>
        </p:nvPicPr>
        <p:blipFill>
          <a:blip r:embed="rId1"/>
          <a:stretch/>
        </p:blipFill>
        <p:spPr>
          <a:xfrm>
            <a:off x="6324480" y="4930920"/>
            <a:ext cx="1638360" cy="1927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7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7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129492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ave you remember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apital letters and full stop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owerful adjectives, adverbs and verb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aragraph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onnectiv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Exclamation marks, question marks, speech mark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New line when someone speak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Keep to the same person – I doesn’t change to “he” unless there is another charac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NEAT HANDWRI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9" descr="C:\Program Files\Microsoft Office\Clipart\Pub60Cor\bd00146_.wmf"/>
          <p:cNvPicPr/>
          <p:nvPr/>
        </p:nvPicPr>
        <p:blipFill>
          <a:blip r:embed="rId1"/>
          <a:stretch/>
        </p:blipFill>
        <p:spPr>
          <a:xfrm>
            <a:off x="6705720" y="380880"/>
            <a:ext cx="1827000" cy="18129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0"/>
          <p:cNvSpPr/>
          <p:nvPr/>
        </p:nvSpPr>
        <p:spPr>
          <a:xfrm>
            <a:off x="2816640" y="285840"/>
            <a:ext cx="25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Comic Sans MS"/>
              </a:rPr>
              <a:t>Checklis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20:31:50Z</dcterms:created>
  <dc:creator>RM</dc:creator>
  <dc:description/>
  <dc:language>en-US</dc:language>
  <cp:lastModifiedBy>Gareth Pitchford</cp:lastModifiedBy>
  <dcterms:modified xsi:type="dcterms:W3CDTF">2007-05-31T14:26:11Z</dcterms:modified>
  <cp:revision>12</cp:revision>
  <dc:subject/>
  <dc:title>Writing a Story</dc:title>
</cp:coreProperties>
</file>